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B0B1-4B4D-4419-95E9-3AE2C74E5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43C-E8B9-4D85-B637-6386189D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7F7A-0622-470D-B790-7B55338C6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A0DE-CB77-489C-8840-3F4BD58E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F6C-A093-47A1-AC03-BAF4C51C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80C-2E4E-4AAF-94C8-BCA01E96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A48-D53C-447D-982D-E7F1A29B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31F-D7BB-4DE4-9652-E3C0D8CC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082-07E0-47CE-9B7F-FB3F03EF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83F-4DDA-4455-B926-2BCE9E2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96C-2703-49CE-8CEF-F59725D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E85-FD12-4936-9860-7FD0C6A4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EE6-3030-45C5-A6E9-BE45103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CE3-FE53-4E6D-B46C-22836370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5A4-64F2-44B1-9B28-77EC91B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5B1-FD71-496E-946D-DB72D87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BDA4-69DB-458A-8248-C9FE6906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upload.wikimedia.org/wikipedia/commons/c/c3/37_Lyndon_Johnson_3x4.jpg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imdb.com/rg/mediaindex/thumbnail/media/rm1416206336/nm0000069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www.rascofromrif.org/wp-content/uploads/2009/07/chains.jpg" TargetMode="External"/><Relationship Id="rId11" Type="http://schemas.openxmlformats.org/officeDocument/2006/relationships/image" Target="../media/image4.jpeg"/><Relationship Id="rId12" Type="http://schemas.openxmlformats.org/officeDocument/2006/relationships/hyperlink" Target="http://www.rascofromrif.org/wp-content/uploads/2009/07/chains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rascofromrif.org/wp-content/uploads/2009/07/chains.jpg" TargetMode="External"/><Relationship Id="rId15" Type="http://schemas.openxmlformats.org/officeDocument/2006/relationships/image" Target="../media/image4.jpeg"/><Relationship Id="rId16" Type="http://schemas.openxmlformats.org/officeDocument/2006/relationships/hyperlink" Target="http://www.rascofromrif.org/wp-content/uploads/2009/07/chains.jpg" TargetMode="External"/><Relationship Id="rId17" Type="http://schemas.openxmlformats.org/officeDocument/2006/relationships/image" Target="../media/image4.jpeg"/><Relationship Id="rId18" Type="http://schemas.openxmlformats.org/officeDocument/2006/relationships/hyperlink" Target="http://www.rascofromrif.org/wp-content/uploads/2009/07/chains.jp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rascofromrif.org/wp-content/uploads/2009/07/chains.jpg" TargetMode="External"/><Relationship Id="rId21" Type="http://schemas.openxmlformats.org/officeDocument/2006/relationships/image" Target="../media/image4.jpeg"/><Relationship Id="rId22" Type="http://schemas.openxmlformats.org/officeDocument/2006/relationships/hyperlink" Target="http://www.rascofromrif.org/wp-content/uploads/2009/07/chains.jpg" TargetMode="External"/><Relationship Id="rId23" Type="http://schemas.openxmlformats.org/officeDocument/2006/relationships/image" Target="../media/image4.jpeg"/><Relationship Id="rId24" Type="http://schemas.openxmlformats.org/officeDocument/2006/relationships/image" Target="../media/image5.jpeg"/><Relationship Id="rId25" Type="http://schemas.openxmlformats.org/officeDocument/2006/relationships/image" Target="../media/image6.jpeg"/><Relationship Id="rId26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27" Type="http://schemas.openxmlformats.org/officeDocument/2006/relationships/image" Target="../media/image7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rascofromrif.org/wp-content/uploads/2009/07/chains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ww.rascofromrif.org/wp-content/uploads/2009/07/chains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9.jpeg"/><Relationship Id="rId8" Type="http://schemas.openxmlformats.org/officeDocument/2006/relationships/hyperlink" Target="http://www.google.com/imgres?imgurl=http://farm4.static.flickr.com/3007/3071300574_e580bcee56_o.jpg&amp;imgrefurl=http://www.flickriver.com/photos/7388762%40N03/3071300574/&amp;usg=__2dNZFXZDiNcAmDE7Fev6UdDzELo=&amp;h=660&amp;w=556&amp;sz=134&amp;hl=en&amp;start=19&amp;zoom=0&amp;um=1&amp;itbs=1&amp;tbnid=fy3H0fcUka3fRM:&amp;tbnh=138&amp;tbnw=116&amp;prev=/search%3Fq%3Dphotographs%2Bof%2Bblack%2Bpeople%26um%3D1%26hl%3Den%26lr%3D%26biw%3D1260%26bih%3D577%26tbm%3Disch&amp;ei=we7DTYW2JMqCgAfmo_TNBA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google.com/imgres?imgurl=http://ih0.redbubble.net/work.1353583.3.flat,550x550,075,f.muckross-house-in-black-and-white.jpg&amp;imgrefurl=http://jeremyrenners.blogspot.com/2009/09/black-and-white-mansion.html&amp;usg=__Iq1CVZHHGD6SxQWc2QyMus5iXUE=&amp;h=413&amp;w=550&amp;sz=40&amp;hl=en&amp;start=7&amp;zoom=1&amp;um=1&amp;itbs=1&amp;tbnid=3461hP945X1xDM:&amp;tbnh=100&amp;tbnw=133&amp;prev=/search%3Fq%3Dmansions%2Bin%2Bblack%2Band%2Bwhite%26um%3D1%26hl%3Den%26sa%3DN%26rlz%3D1R2GGLL_enUS361%26biw%3D1260%26bih%3D575%26tbm%3Disch&amp;ei=4PbDTefuBpLrgQfMsKHMBA" TargetMode="External"/><Relationship Id="rId13" Type="http://schemas.openxmlformats.org/officeDocument/2006/relationships/image" Target="../media/image8.jpeg"/><Relationship Id="rId14" Type="http://schemas.openxmlformats.org/officeDocument/2006/relationships/image" Target="../media/image7.jpeg"/><Relationship Id="rId15" Type="http://schemas.openxmlformats.org/officeDocument/2006/relationships/image" Target="../media/image5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depressed from a hard day of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Garden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Gardener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Location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anhattan N,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Manhattan, N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8" descr="File:37 Lyndon Johnson 3x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1" descr="Frank Sinatra, portrait for Kings Go Forth, 1958.&#10;Vintage silver gelatin, 7x13.5, signed. $900&#10;Â© 1978 Bill Avery&#10;MPT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0"/>
          <p:cNvSpPr/>
          <p:nvPr/>
        </p:nvSpPr>
        <p:spPr>
          <a:xfrm>
            <a:off x="-152280" y="58672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2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is mad about her sister being sold.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just pulled Lady Seymour out of a fi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wants to be fre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 has just been branded by Mad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visited her grandfather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ner is sad about her mothers de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9" descr="See full size imag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4920" y="838080"/>
            <a:ext cx="1218960" cy="1611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1" descr="See full size imag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33720" y="2438280"/>
            <a:ext cx="380880" cy="58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3" descr="See full size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3124080"/>
            <a:ext cx="380880" cy="586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5" descr="See full size imag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133720" y="3792600"/>
            <a:ext cx="380880" cy="58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7" descr="See full size imag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133720" y="4478400"/>
            <a:ext cx="380880" cy="62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9" descr="See full size image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5164200"/>
            <a:ext cx="380880" cy="58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1" descr="See full size image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133720" y="5925960"/>
            <a:ext cx="380880" cy="703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9"/>
          <p:cNvSpPr/>
          <p:nvPr/>
        </p:nvSpPr>
        <p:spPr>
          <a:xfrm>
            <a:off x="609480" y="5867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7"/>
          <p:cNvSpPr/>
          <p:nvPr/>
        </p:nvSpPr>
        <p:spPr>
          <a:xfrm>
            <a:off x="12193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8" descr="http://www.digital-photography-school.com/wp-content/black-and-white.jpg"/>
          <p:cNvPicPr/>
          <p:nvPr/>
        </p:nvPicPr>
        <p:blipFill>
          <a:blip r:embed="rId24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7"/>
          <p:cNvSpPr/>
          <p:nvPr/>
        </p:nvSpPr>
        <p:spPr>
          <a:xfrm>
            <a:off x="3600" y="6611760"/>
            <a:ext cx="80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ckt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http://www.portraits-chicago.com/wp-content/uploads/2009/04/black-and-white-photography-pictures.jpg"/>
          <p:cNvPicPr/>
          <p:nvPr/>
        </p:nvPicPr>
        <p:blipFill>
          <a:blip r:embed="rId25"/>
          <a:stretch/>
        </p:blipFill>
        <p:spPr>
          <a:xfrm>
            <a:off x="152280" y="6095880"/>
            <a:ext cx="457200" cy="55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http://t3.gstatic.com/images?q=tbn:ANd9GcTFDGp_PExuNPbP5uWUSNFpGCJNNGNKRenQ6_6O90sm-Wdd7uFu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68580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abel Gardener is depressed from a hard day of work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Gardener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Gardener’s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6002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Occup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hattan, N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?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nhattan, NY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  slave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3720" y="3200400"/>
            <a:ext cx="449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 NTRESTS:  being free, and finding her si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5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533520"/>
            <a:ext cx="1371600" cy="187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4" descr="http://t3.gstatic.com/images?q=tbn:ANd9GcTFDGp_PExuNPbP5uWUSNFpGCJNNGNKRenQ6_6O90sm-Wdd7uFu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257800"/>
            <a:ext cx="685800" cy="816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http://t1.gstatic.com/images?q=tbn:ANd9GcSezrNlkKQBWOnFQB5MLyh-nh-FqFZbfCj88eEXn72GBSlOQLo8MkmYUrt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2280" y="6172200"/>
            <a:ext cx="762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685800" y="1523880"/>
            <a:ext cx="190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 Gardener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ckton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depressed from a hard day of work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8" descr="http://www.digital-photography-school.com/wp-content/black-and-white.jpg"/>
          <p:cNvPicPr/>
          <p:nvPr/>
        </p:nvPicPr>
        <p:blipFill>
          <a:blip r:embed="rId3"/>
          <a:stretch/>
        </p:blipFill>
        <p:spPr>
          <a:xfrm>
            <a:off x="914400" y="1828800"/>
            <a:ext cx="1044720" cy="12193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3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9" descr="http://www.portraits-chicago.com/wp-content/uploads/2009/04/black-and-white-photography-pictures.jpg"/>
          <p:cNvPicPr/>
          <p:nvPr/>
        </p:nvPicPr>
        <p:blipFill>
          <a:blip r:embed="rId4"/>
          <a:stretch/>
        </p:blipFill>
        <p:spPr>
          <a:xfrm>
            <a:off x="2590920" y="182880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9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457200"/>
            <a:ext cx="609840" cy="80640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0"/>
          <p:cNvSpPr/>
          <p:nvPr/>
        </p:nvSpPr>
        <p:spPr>
          <a:xfrm>
            <a:off x="63360" y="-136440"/>
            <a:ext cx="409572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2" descr="http://www.adrants.com/images/hitler_black_people.jpg"/>
          <p:cNvPicPr/>
          <p:nvPr/>
        </p:nvPicPr>
        <p:blipFill>
          <a:blip r:embed="rId7"/>
          <a:stretch/>
        </p:blipFill>
        <p:spPr>
          <a:xfrm>
            <a:off x="4038480" y="1828800"/>
            <a:ext cx="1143000" cy="1387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4" descr="http://t3.gstatic.com/images?q=tbn:ANd9GcTFDGp_PExuNPbP5uWUSNFpGCJNNGNKRenQ6_6O90sm-Wdd7uFu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828800"/>
            <a:ext cx="1104840" cy="131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8" descr="http://t1.gstatic.com/images?q=tbn:ANd9GcSezrNlkKQBWOnFQB5MLyh-nh-FqFZbfCj88eEXn72GBSlOQLo8MkmYUrt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38080" y="33526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0" descr="http://t1.gstatic.com/images?q=tbn:ANd9GcSezrNlkKQBWOnFQB5MLyh-nh-FqFZbfCj88eEXn72GBSlOQLo8MkmYUrt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676520" y="4952880"/>
            <a:ext cx="1828800" cy="13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4" descr="http://t3.gstatic.com/images?q=tbn:ANd9GcTFDGp_PExuNPbP5uWUSNFpGCJNNGNKRenQ6_6O90sm-Wdd7uFu"/>
          <p:cNvPicPr/>
          <p:nvPr/>
        </p:nvPicPr>
        <p:blipFill>
          <a:blip r:embed="rId14"/>
          <a:stretch/>
        </p:blipFill>
        <p:spPr>
          <a:xfrm>
            <a:off x="1143000" y="5638680"/>
            <a:ext cx="533520" cy="635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8" descr="http://www.digital-photography-school.com/wp-content/black-and-white.jpg"/>
          <p:cNvPicPr/>
          <p:nvPr/>
        </p:nvPicPr>
        <p:blipFill>
          <a:blip r:embed="rId15"/>
          <a:stretch/>
        </p:blipFill>
        <p:spPr>
          <a:xfrm>
            <a:off x="609480" y="5638680"/>
            <a:ext cx="522360" cy="609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See full size image"/>
          <p:cNvPicPr/>
          <p:nvPr/>
        </p:nvPicPr>
        <p:blipFill>
          <a:blip r:embed="rId16"/>
          <a:stretch/>
        </p:blipFill>
        <p:spPr>
          <a:xfrm>
            <a:off x="3733920" y="5105520"/>
            <a:ext cx="8380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5T18:41:25Z</dcterms:modified>
  <cp:revision>42</cp:revision>
  <dc:subject/>
  <dc:title>Profile</dc:title>
</cp:coreProperties>
</file>